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C77-65FF-4612-B5A8-48B67791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61B-C96F-43CB-A1D9-AC1AFCFE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11D-FA02-42A1-8A30-35337198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F37-FE16-4D94-8DD1-2611D6D1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479-8EEC-4379-A72A-D964BA9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423-18FD-4E00-AB36-8974709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130-B0B7-4FBE-87E2-370FA32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5E7-97A9-4695-B0ED-C3CA30CB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52B-4F02-4E7E-989E-CA2792D7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9AA-353C-41A7-9FCB-5ED5405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345-19C9-483A-A43D-75C066B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A9D-7A58-4B02-8268-C512C37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902D-B3AA-4481-A304-170C733E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RISTOMENES OF MESSENIA - (7th century B.C.). Fighting Spartan warriors.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3276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loponnesian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ta and its al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found on the Peloponnesian Peninsula and Maced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ed of Athens growing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5880" y="121932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ian L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s and its al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 along the coasts of the Aegean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rmed to protect Greece from Per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hens had turned the league into its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were 431 – 404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7913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 and its allies vs. Athens and its a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eloponnesian War, 431-404 B.C."/>
          <p:cNvPicPr/>
          <p:nvPr/>
        </p:nvPicPr>
        <p:blipFill>
          <a:blip r:embed="rId1"/>
          <a:stretch/>
        </p:blipFill>
        <p:spPr>
          <a:xfrm>
            <a:off x="2666880" y="2514600"/>
            <a:ext cx="3429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partan warriors "/>
          <p:cNvPicPr/>
          <p:nvPr/>
        </p:nvPicPr>
        <p:blipFill>
          <a:blip r:embed="rId1"/>
          <a:stretch/>
        </p:blipFill>
        <p:spPr>
          <a:xfrm>
            <a:off x="3352680" y="3505320"/>
            <a:ext cx="5639040" cy="3186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hens wouldn’t let city-states leave the Delian Lea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hens began to attack other cities to protect its trade ro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rta and its allies were scared of Athens growing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hens refuses Sparta’s ultimatum to free all cities under it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4191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 invades Athens countryside, burns farms, and cuts down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hens brings all its citizens within the walls of the city-state and a plague strikes {many die, food scarce, slaves escap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 has a powerful army and Athens has a powerful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thens weakened, its allies joined 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a gives Sparta money to improve its n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 captures Athens navy at Helles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5720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28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 and its allies win after Athens surrenders from starvation and its navy being cap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1:50:37Z</dcterms:created>
  <dc:creator>gehadde</dc:creator>
  <dc:description/>
  <dc:language>en-US</dc:language>
  <cp:lastModifiedBy>gehadde</cp:lastModifiedBy>
  <dcterms:modified xsi:type="dcterms:W3CDTF">2012-05-03T17:13:42Z</dcterms:modified>
  <cp:revision>16</cp:revision>
  <dc:subject/>
  <dc:title>Slide 1</dc:title>
</cp:coreProperties>
</file>